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60E-D8A5-4577-903A-18AD741C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BC7-8B7B-4B95-8DF3-A06B9C4E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1BA-ECBD-4EC2-BE04-6179B9C6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D50-1CB9-4E58-A85D-C8B77A52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1A1-5F3A-4FF4-83BB-3D084797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0913-8F60-4668-8509-39FE0BFA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2240-D70C-49D7-938B-4DEEB086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A949-F910-4140-B6BF-12CFB67F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D509-AFDB-4E6A-A87D-7366F124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3B26-C16C-4B18-BB7B-75738E24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BD48-DBFE-4705-9FB8-1FC7020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0C0-1004-49CB-973C-4C25D211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8C18-39F2-49E9-AE4C-C049DE8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5A38-7B22-4207-90E5-2DB3CCF1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7D0B-D6E7-4D3B-959C-A47EFD9B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3C63-A107-4928-B528-1B243513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E68A-0350-4DF5-B1B1-08E4CF1A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0EC-03B0-4D62-92D2-F1916EA2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FCA-8F54-4224-848C-9806627D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F13-5B2B-4158-AC9B-EB118F6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3EB-AE38-4C37-8F84-EFF3C274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C24-CAAC-4268-BA2D-9B8F1B30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304-7F07-41A3-A8EA-CFF20D4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E72-6800-4873-884F-69C5B085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A35E-0475-4384-8345-F305079BA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A659-A7C5-455B-9DEB-B1CBB7730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esson 5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n and Roy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iggurat:  temple t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center of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levels: gardens on each level, shrine on 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Ziggurats and the Greatest of them -  Sumerian Ziggurat of Ur"/>
          <p:cNvPicPr/>
          <p:nvPr/>
        </p:nvPicPr>
        <p:blipFill>
          <a:blip r:embed="rId1"/>
          <a:stretch/>
        </p:blipFill>
        <p:spPr>
          <a:xfrm>
            <a:off x="2286000" y="1905120"/>
            <a:ext cx="466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ytheism:  the worship of many g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erians worshipped many false gods who acted like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na: the Sumerian moon god; patron god of 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ests held powerful positions in Sumer because of their special “connection” to the g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ity had a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Sumerians did not believe their city-god cared about their problems, they also worshipped several lesser gods in their h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erians worshipped gods by giving gifts, performing rituals, and praying to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gods were unhappy, disaster would str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0" y="3816360"/>
            <a:ext cx="47242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le was seat of Sumerian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-state: an independent city and its surrounding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er was made up of several city-st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had its own king and its own g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kings wrote down laws and ruled by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ho broke laws often had to pay f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3:30:10Z</dcterms:created>
  <dc:creator>erin.hendricks</dc:creator>
  <dc:description/>
  <dc:language>en-US</dc:language>
  <cp:lastModifiedBy>erin.hendricks</cp:lastModifiedBy>
  <dcterms:modified xsi:type="dcterms:W3CDTF">2011-08-29T14:18:23Z</dcterms:modified>
  <cp:revision>2</cp:revision>
  <dc:subject/>
  <dc:title>Lessons 5 and 6</dc:title>
</cp:coreProperties>
</file>